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D09-A9F3-4213-8595-E4010C30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185D-A0CA-4A03-98DC-4111A62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3CF-8CEA-47AF-843E-A47023D0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E72-0492-4462-A13A-A6B3569A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610E-D9B7-463C-9410-C46C6ACC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578C-9F32-4575-999C-CB508D13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6A9B-79F8-4F56-8101-928DBB47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078F-6793-4561-A8E8-59FA005C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E6BD-EB24-450F-8848-7E2F1279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7A6-6317-4501-BBD1-B15D0164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3FB6-18D3-41E6-8233-496E7A9B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3BF-9EB6-42AE-A4CE-17003A86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91C9-2C47-405F-A4D4-240C5E8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3A4D-E032-4E61-A0C9-C7C5CAF2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9BF8-B23F-448D-981C-CDAC65E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0737-689A-40C8-9527-E8D091D6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903C-C279-435A-AF46-3444AD2B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060-56FE-4943-868D-2A57A373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AEE-3700-415D-B5A1-862D6D4E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C32-2F7D-40DB-855D-BB27F579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BA9-E76C-4411-9E1A-BFF4E03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B09-328B-4667-8A95-79E9CE3E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3CF-F124-427C-983C-5CBBCB92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776-375B-41ED-9217-FD26170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00AF-D550-4AB3-A4BE-C87A905D9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5127-7E62-4AB3-810F-5F9559D0F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son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odel Perform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del performers are performers who can execute a model performance of a skill or techniqu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y can be teacher, coach, classmate,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ain 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equences of movements are carried out in a fluent, controlled way, often with a minimum of effo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ood decision making – correct options are ma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kills and techniques are used which reflect the performers ability and exper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odel performers can show you how to improve by giving you a picture of what you are trying to achie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helps you to determine training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atching top level performers can make you motivated to improve your performance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Preparation, action and recovery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kills and techniques can be broken down into three phase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reaking skills and techniques down into these three phases is an effective way of analysing skills and techniques.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0920" y="1700280"/>
            <a:ext cx="5257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"/>
              </a:rPr>
              <a:t>STAG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00"/>
                </a:solidFill>
                <a:latin typeface="Arial"/>
              </a:rPr>
              <a:t>LEARN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gnitive (prepar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ssociative (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utonomous 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tage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CHARACTERISTICS WOULD YOU EXPECT TO SEE FROM SOMEONE AT THIS STAGE OF LEAR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ake into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are you doing at this stage of learn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is their skill level li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o they receive feedbac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Do you make mistak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happens when you are put under press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STAGES OF LEAR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METHODS OF PRACTICE ARE APPROPRIATE AT EACH STAGE OF LEARNING AND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ake into consid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at two practices you use at each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ake one method of practice per stage and describe it briefl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n state why you use this type of practice at this stage of lear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7:52:41Z</dcterms:created>
  <dc:creator>DooganS</dc:creator>
  <dc:description/>
  <dc:language>en-US</dc:language>
  <cp:lastModifiedBy>DooganS</cp:lastModifiedBy>
  <dcterms:modified xsi:type="dcterms:W3CDTF">2009-12-01T08:31:31Z</dcterms:modified>
  <cp:revision>4</cp:revision>
  <dc:subject/>
  <dc:title>Skills &amp; Techniques</dc:title>
</cp:coreProperties>
</file>